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24.wmf" ContentType="image/x-wmf"/>
  <Override PartName="/ppt/media/image6.jpeg" ContentType="image/jpeg"/>
  <Override PartName="/ppt/media/image23.wmf" ContentType="image/x-wmf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10152063" cy="7588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36520" y="685440"/>
            <a:ext cx="45849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5A98-2E22-4368-B61A-2F1D098EAD67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FE59-BF30-48A2-9136-52EA9EBA150F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2A1E-1ED4-4BE6-BE7E-90FB8CF7CA21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CF97-F9EF-4076-8689-B158C53C5604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D152-17D0-4D03-8EE2-6B730511C1CD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2D27-0AAC-4FA8-AECE-FE47963219F3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396A-A781-4825-B1CC-500FC30E8FCC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7DC8-FEEE-4E14-874D-1A8EB7ED1C83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B6E1-E8E5-45E6-BCB3-122CCA1A9488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99D4-6C16-4757-93DA-F8E582C02623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65FB-E09C-4601-8DDF-C1EC0FD60EE0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3AA5-EE81-4A73-B36C-F7DAD0B075C8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41EB-EB9A-4388-9840-DAB1392B177E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B551-CC71-42E9-B69F-06C2BCD335D4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FD15-40D1-4CD9-8544-BF53C18DD037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64FC-FE45-4BA1-800C-D4EEA252AD7D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D0EC-D12D-4B1A-9F0A-32CAB7C03FF2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7CA5-5E01-48C2-BAC2-32584597F4C7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4656-1B55-4BB5-A673-636B0ECE8E18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0DD8-8124-4351-893C-54DD58A20BAB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D17A-EDF3-4A60-A830-3E065E4C41C2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0AF0-62E8-4FCB-A1E3-8A02A888BC53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D4A0-6294-4413-9773-E8960C250E6D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EA5B-55AD-4940-81F3-625FCB1D53D0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424-8218-4B14-ABD5-C7070953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830A-6252-47C9-8090-978D39F2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2D3B-5807-4FAF-BA26-6FE10B72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104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75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104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75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373-35FE-4B9D-8A7A-B22461F2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B630-6D29-4AF0-AE81-C433803D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CF5A-BDB7-416C-84D6-0E22A9BD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B1C3-B765-4721-AE00-043FFAEC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D8E1-D4A1-49F9-B2EF-E2338D5B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6D4E-1E82-4FA7-B750-D8A24F35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DB0F-42F3-43EF-B783-3D3A19E2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FD9F-290A-45BD-932E-08B25983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FB8-6F86-417F-9C95-CF97BF25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1291-E0A3-4065-A2EC-613265BC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E0C8-7650-464E-8657-8871F24A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31E5-CFF4-486D-99F5-452953ED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289E-19CC-4B0C-BDE8-9697DD30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5104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75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5104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75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E472-5E6F-42B4-B323-7BFE4BDF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FE05-982C-46FB-A542-71D0AD15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BA45-2C29-45DA-A700-6F74914F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BF9-D3FD-4CBB-84D3-C087B398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83D-E930-49EE-9BD5-FCF4FB46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B74-0F7D-4249-BE98-CA34FF81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FD0-87F1-4837-8B13-B4871005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5EC1-D79C-4ADE-97D4-FF727946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52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915240"/>
            <a:ext cx="211428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6915240"/>
            <a:ext cx="321336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3800" y="6915240"/>
            <a:ext cx="211464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BBEE-DD6F-47BB-B55D-C757FEB0C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52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62120" y="6933960"/>
            <a:ext cx="2133360" cy="533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5320" y="69339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520" y="69339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B617-AC6D-45E2-8C19-4385D80D9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124080" y="55483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y of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a Dray – Glebe Collegiate Instit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322800" y="1890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hat is Geography?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Canada’s newest territory and its capital c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4680" y="3262320"/>
            <a:ext cx="43131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99, the Territory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nav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reated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qalu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hosen as its capital c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slide1-25"/>
          <p:cNvPicPr/>
          <p:nvPr/>
        </p:nvPicPr>
        <p:blipFill>
          <a:blip r:embed="rId2"/>
          <a:stretch/>
        </p:blipFill>
        <p:spPr>
          <a:xfrm>
            <a:off x="4944960" y="2119320"/>
            <a:ext cx="49309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se people is not Canad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or Kiefer Suth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er Shania Tw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or Angelina Jo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fer Mike W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er Avril Lav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74680" y="4862520"/>
            <a:ext cx="4313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ite her French name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gelina Jol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born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Angeles, US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angelina-jolie-376x490"/>
          <p:cNvPicPr/>
          <p:nvPr/>
        </p:nvPicPr>
        <p:blipFill>
          <a:blip r:embed="rId2"/>
          <a:stretch/>
        </p:blipFill>
        <p:spPr>
          <a:xfrm>
            <a:off x="5761080" y="2347920"/>
            <a:ext cx="35812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rovince joined Canada in 1949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74680" y="2500200"/>
            <a:ext cx="4313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foundl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ed Canada in 1949. In 2001, the province’s name was officially changed to Newfoundl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d Labrado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newfoundland"/>
          <p:cNvPicPr/>
          <p:nvPr/>
        </p:nvPicPr>
        <p:blipFill>
          <a:blip r:embed="rId2"/>
          <a:stretch/>
        </p:blipFill>
        <p:spPr>
          <a:xfrm>
            <a:off x="4923000" y="2500200"/>
            <a:ext cx="4876560" cy="38275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7763400" y="379584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nd LABRAD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highest award that Canada gives for outstanding achievement and service to the coun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74680" y="3110040"/>
            <a:ext cx="967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er of Cana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three levels: Member (CM), Officer (OC), and Companion (CC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Making Connections PP 1-31a"/>
          <p:cNvPicPr/>
          <p:nvPr/>
        </p:nvPicPr>
        <p:blipFill>
          <a:blip r:embed="rId2"/>
          <a:stretch/>
        </p:blipFill>
        <p:spPr>
          <a:xfrm>
            <a:off x="1036800" y="4253040"/>
            <a:ext cx="2286000" cy="3200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Making Connections PP 1-31b"/>
          <p:cNvPicPr/>
          <p:nvPr/>
        </p:nvPicPr>
        <p:blipFill>
          <a:blip r:embed="rId3"/>
          <a:stretch/>
        </p:blipFill>
        <p:spPr>
          <a:xfrm>
            <a:off x="6751800" y="4253040"/>
            <a:ext cx="2286000" cy="320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Making Connections PP 1-31c"/>
          <p:cNvPicPr/>
          <p:nvPr/>
        </p:nvPicPr>
        <p:blipFill>
          <a:blip r:embed="rId4"/>
          <a:stretch/>
        </p:blipFill>
        <p:spPr>
          <a:xfrm>
            <a:off x="4008600" y="4253040"/>
            <a:ext cx="2286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longest river in Can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04920" y="2652840"/>
            <a:ext cx="34750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kenzie Ri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Northwest Territories is 4241 km lo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Making Connections PP 1-33"/>
          <p:cNvPicPr/>
          <p:nvPr/>
        </p:nvPicPr>
        <p:blipFill>
          <a:blip r:embed="rId2"/>
          <a:stretch/>
        </p:blipFill>
        <p:spPr>
          <a:xfrm>
            <a:off x="3855960" y="2500200"/>
            <a:ext cx="613404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han the United Kingdom and France, what country is the origin of the greatest number of Canadian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274680" y="3567240"/>
            <a:ext cx="43131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are surprised to find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third largest source of Canadia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germany01"/>
          <p:cNvPicPr/>
          <p:nvPr/>
        </p:nvPicPr>
        <p:blipFill>
          <a:blip r:embed="rId2"/>
          <a:stretch/>
        </p:blipFill>
        <p:spPr>
          <a:xfrm>
            <a:off x="5532480" y="3033720"/>
            <a:ext cx="390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erms of value, what is Canada’s most important export commod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274680" y="2881440"/>
            <a:ext cx="4313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s, trucks, and auto pa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our most important exports. In 2004, we sold more than $90 billion worth—primarily to the United Stat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Tire 08"/>
          <p:cNvPicPr/>
          <p:nvPr/>
        </p:nvPicPr>
        <p:blipFill>
          <a:blip r:embed="rId2"/>
          <a:stretch/>
        </p:blipFill>
        <p:spPr>
          <a:xfrm>
            <a:off x="5837400" y="3338640"/>
            <a:ext cx="265104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at province or territory is Canada’s highest mount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74680" y="3262320"/>
            <a:ext cx="43131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t Logan i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ukon Terri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stands an impressive 5959 metres above sea leve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Mountains 123"/>
          <p:cNvPicPr/>
          <p:nvPr/>
        </p:nvPicPr>
        <p:blipFill>
          <a:blip r:embed="rId2"/>
          <a:stretch/>
        </p:blipFill>
        <p:spPr>
          <a:xfrm>
            <a:off x="4465800" y="2971800"/>
            <a:ext cx="525780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celebrities mentioned in Question #9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lative of the person chosen as the Greatest Canadian (Question #2). Which celebrity is it, and what is their relation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74680" y="4100400"/>
            <a:ext cx="6477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efer Sutherland is Tommy Douglas’s grand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Kiefer’s parents, both actors, are Shirley Douglas (Tommy’s daughter) and Donald Sutherlan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guide_story6+4"/>
          <p:cNvPicPr/>
          <p:nvPr/>
        </p:nvPicPr>
        <p:blipFill>
          <a:blip r:embed="rId2"/>
          <a:stretch/>
        </p:blipFill>
        <p:spPr>
          <a:xfrm>
            <a:off x="7589880" y="3186000"/>
            <a:ext cx="2168640" cy="2638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kiefer"/>
          <p:cNvPicPr/>
          <p:nvPr/>
        </p:nvPicPr>
        <p:blipFill>
          <a:blip r:embed="rId3"/>
          <a:stretch/>
        </p:blipFill>
        <p:spPr>
          <a:xfrm>
            <a:off x="6599160" y="4937040"/>
            <a:ext cx="17636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d Map of Cana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blank sheet of paper, draw a map of Canada as close to reality as possible.  Do this on your own – without looking at other people’s maps or any reference material such as an atla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your map, label what you regard as important features, such as provinces, cities, mountain ranges, and bodies of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MCj01302530000[1]"/>
          <p:cNvPicPr/>
          <p:nvPr/>
        </p:nvPicPr>
        <p:blipFill>
          <a:blip r:embed="rId2"/>
          <a:stretch/>
        </p:blipFill>
        <p:spPr>
          <a:xfrm>
            <a:off x="6294600" y="4811760"/>
            <a:ext cx="276696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Geography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Geography Qui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d Map of Can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 of Geograph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d Map of Cana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arts of Canada do you know b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arts of your map are most incomple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feel it is important to know where places are in Canada? 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MCj01345490000[1]"/>
          <p:cNvPicPr/>
          <p:nvPr/>
        </p:nvPicPr>
        <p:blipFill>
          <a:blip r:embed="rId2"/>
          <a:stretch/>
        </p:blipFill>
        <p:spPr>
          <a:xfrm>
            <a:off x="6980400" y="3567240"/>
            <a:ext cx="1603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Geography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9601200" cy="585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grap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cience that tries to understand how the Earth works and how humans chang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cience examines the Earth’s surface and the processes that shap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y especially looks at the relationship between people and the Earth’s physical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our relationship with the Earth, geographers ask questions and search for answers to problems.  By exploring these problems, we can make better, wiser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Geography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graphers try to answer thre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re things located on Ear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onnections between people and the Ear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illustrate this information to understand it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graphy has two main focu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th’s physical geography (natural thin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th’s human geography (people and things related to people such as c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apollo17_earth"/>
          <p:cNvPicPr/>
          <p:nvPr/>
        </p:nvPicPr>
        <p:blipFill>
          <a:blip r:embed="rId1"/>
          <a:stretch/>
        </p:blipFill>
        <p:spPr>
          <a:xfrm>
            <a:off x="1494000" y="0"/>
            <a:ext cx="75438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rovince or territory has one of the world’s greatest stores of dinosaur b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lide11"/>
          <p:cNvPicPr/>
          <p:nvPr/>
        </p:nvPicPr>
        <p:blipFill>
          <a:blip r:embed="rId2"/>
          <a:stretch/>
        </p:blipFill>
        <p:spPr>
          <a:xfrm>
            <a:off x="6108840" y="2576520"/>
            <a:ext cx="3519360" cy="4678200"/>
          </a:xfrm>
          <a:prstGeom prst="rect">
            <a:avLst/>
          </a:prstGeom>
          <a:ln w="0">
            <a:noFill/>
          </a:ln>
        </p:spPr>
      </p:pic>
      <p:sp>
        <p:nvSpPr>
          <p:cNvPr id="96" name="Oval 5"/>
          <p:cNvSpPr/>
          <p:nvPr/>
        </p:nvSpPr>
        <p:spPr>
          <a:xfrm>
            <a:off x="7894800" y="5929200"/>
            <a:ext cx="685800" cy="3049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5989680" y="6005520"/>
            <a:ext cx="1828800" cy="7632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74680" y="4633920"/>
            <a:ext cx="5456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ea near Drumheller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ber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s the best place to look for dinosaur bones in Canad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4, the CBC ran a series of television programs that asked Canadians to choose the Greatest Canadian of all time. Who was chosen for this hon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74680" y="3948120"/>
            <a:ext cx="43131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r premier of Saskatchew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mmy Dougl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hosen for his role in establishing medicar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Making Connections PP 1-13"/>
          <p:cNvPicPr/>
          <p:nvPr/>
        </p:nvPicPr>
        <p:blipFill>
          <a:blip r:embed="rId2"/>
          <a:stretch/>
        </p:blipFill>
        <p:spPr>
          <a:xfrm>
            <a:off x="5303880" y="3567240"/>
            <a:ext cx="4497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 is the second largest country in the world. What country is larger in area than Can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74680" y="2652840"/>
            <a:ext cx="9677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s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as big as Canada and Australia combin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slide01-15"/>
          <p:cNvPicPr/>
          <p:nvPr/>
        </p:nvPicPr>
        <p:blipFill>
          <a:blip r:embed="rId2"/>
          <a:stretch/>
        </p:blipFill>
        <p:spPr>
          <a:xfrm>
            <a:off x="2637000" y="3186000"/>
            <a:ext cx="7321320" cy="41767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6981840" y="356724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4314960" y="371952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7896240" y="432900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781440" y="410040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772160" y="547200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8429760" y="592920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7363080" y="455760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543560" y="592920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6981840" y="394812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6372720" y="478620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hockey team has won the Stanley Cup most of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74680" y="2652840"/>
            <a:ext cx="9524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ntreal Canadiens have won the Stanley Cup 24 times, making them the winningest team in sports histor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Ice Hockey - Stanley Cup"/>
          <p:cNvPicPr/>
          <p:nvPr/>
        </p:nvPicPr>
        <p:blipFill>
          <a:blip r:embed="rId2"/>
          <a:stretch/>
        </p:blipFill>
        <p:spPr>
          <a:xfrm>
            <a:off x="1417680" y="4451400"/>
            <a:ext cx="3144960" cy="2620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montreal_800600"/>
          <p:cNvPicPr/>
          <p:nvPr/>
        </p:nvPicPr>
        <p:blipFill>
          <a:blip r:embed="rId3"/>
          <a:stretch/>
        </p:blipFill>
        <p:spPr>
          <a:xfrm>
            <a:off x="5227560" y="4300560"/>
            <a:ext cx="38102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4, Canada’s foreign trade was approximatel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90 million per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90 million per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90 million per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90 million per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90 million per y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74680" y="5396040"/>
            <a:ext cx="4572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90 millio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r hour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Making Connections PP 1-19"/>
          <p:cNvPicPr/>
          <p:nvPr/>
        </p:nvPicPr>
        <p:blipFill>
          <a:blip r:embed="rId2"/>
          <a:stretch/>
        </p:blipFill>
        <p:spPr>
          <a:xfrm>
            <a:off x="5837400" y="2881440"/>
            <a:ext cx="274140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rime minister has been in power for the longest period of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74680" y="3262320"/>
            <a:ext cx="55627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Honour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lliam Lyon Mackenzie 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Prime Minister for almost 22 yea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king_lg"/>
          <p:cNvPicPr/>
          <p:nvPr/>
        </p:nvPicPr>
        <p:blipFill>
          <a:blip r:embed="rId2"/>
          <a:stretch/>
        </p:blipFill>
        <p:spPr>
          <a:xfrm>
            <a:off x="5989680" y="2805120"/>
            <a:ext cx="32130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se materials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ed in Can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74680" y="5091120"/>
            <a:ext cx="4313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not mined in Canad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Tin_ore_from_Cornwall"/>
          <p:cNvPicPr/>
          <p:nvPr/>
        </p:nvPicPr>
        <p:blipFill>
          <a:blip r:embed="rId2"/>
          <a:stretch/>
        </p:blipFill>
        <p:spPr>
          <a:xfrm>
            <a:off x="5151600" y="3033720"/>
            <a:ext cx="37335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8:59:57Z</dcterms:created>
  <dc:creator>Craig I.W. Marlatt</dc:creator>
  <dc:description/>
  <dc:language>en-US</dc:language>
  <cp:lastModifiedBy>Customer</cp:lastModifiedBy>
  <dcterms:modified xsi:type="dcterms:W3CDTF">2010-09-02T15:11:00Z</dcterms:modified>
  <cp:revision>1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11033</vt:lpwstr>
  </property>
</Properties>
</file>